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0A3-0536-4061-AE57-744A0D1C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C72-32E7-4A2E-8FE4-01904E99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DEBFE-5F3B-43A1-A485-12C8CEE3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B996C-5639-4AD1-B093-EF981614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F5B4C-F6D0-4CA1-86D8-D9582200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4EC99-3B67-4B96-BCB3-56D14B27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7DF95-A0AB-4CB3-A1B0-DFCA6584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51A98-A245-4A51-AD9C-70C87293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DBD4E-9405-4BE9-8D63-3559C579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5CF77-FAC0-49A3-A879-5F8CBEE9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C0663-6C5B-4695-BC8A-63DE218F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4EC49-250C-434B-9FBE-D5B13A6E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B69-422E-4BA3-AD93-392039EE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BB47C-552A-4D32-A926-925A709B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F3CEF-B6EC-4C22-836F-ABB0898A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076D4-2A6E-4687-A370-4A59271D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A21D1-020D-4F5F-A98B-CAF8EF0C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B86C3-E49F-4C48-AEED-455950DC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D4131-ECE9-4D19-B591-F8564590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BB30E-D64C-4712-8BDE-76F0571C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0C3A8-98FA-446E-8011-47C3C6C7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50E10-2F34-4071-BFDD-E41AB501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7E99D-6FBC-4563-B369-5A729B1B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291-AD89-4B5B-BBAB-C4F311A4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37140-F323-48F5-8743-1D516F1B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FAA60-97A0-40C5-ABE6-6243A562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B1495-1E8C-4854-84CB-E6D7A3CE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A773C-A2FD-4B5C-A908-F62ED442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0C3EB-F6D4-415F-92CA-04F03352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AD21C-13B7-41E8-A2E5-0A2F5F6F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85183-1B36-4555-8FC7-E978D3AD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82232-3AD9-4C76-A08E-5E49DC3E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F7915-5DF7-4569-B0F8-9F187047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E1BF6-BB62-4BE0-9F40-5FA66B3F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7C58-7EE5-4D38-A999-88F13E42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BD32B-7CFF-458C-B7B7-49CB045C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13EFC-B74D-4C76-BF65-8FC31D5B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7D583-3B30-477A-AC98-E757DD61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D1D7F-E90E-4C43-BCB3-FD928A60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C7443-B35C-4716-A638-A96951B1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77376-1A96-4409-9AC5-53F95C7A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F8065-3DEF-4B65-80B8-45C31476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C33B0-A275-4B82-ABF8-D2A424B0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A0B98-0A5C-4655-B8D4-DFF67B7F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E39D4-77E5-4E90-8D3F-DA1C9566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8EAE-14A1-4D36-9537-476C69EE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8C9A1-C74F-445B-9835-A6F26165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A001D-E9F5-40B5-9903-69DC9E52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635A5-F82D-4EE2-9B91-FD5F3BC2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26FF5-5077-4AE5-8A6A-C0541EAE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42E5A-84E8-40D2-A634-C8112D83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1BEF-A132-437E-BAF0-612BCF98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3962-E2F4-485E-8652-C4B12706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C59C-EC08-4F57-9ADC-CF7A2833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EB9A-38BF-4048-A157-FACD8045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6F3A-84BD-4A58-B752-8C4FE5A2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0CC-36F3-4564-A429-2037F07A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36D9-3807-43D3-B88D-12920171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1144-6AC2-45FD-A7BF-0E22625C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BF85-BB0D-46F4-9301-079BC144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905B-51EE-4733-9175-D9EDB895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5E6F-806F-4D5C-871A-D573A3E9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28181-818A-4566-B490-00DBA30C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E9D0A-F413-4790-90AB-80F731C8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EF1AB-941C-41C0-BBCD-ED7A05E8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5C6DA-F960-436D-AB7F-DE3C5B8C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CA72A-28AE-4F5C-9576-5479C879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B3D-47D1-42A9-8A74-41E3BF10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3D575-65B3-4872-A9FB-78D5D06A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E97CF-0F70-4110-AB5C-0FB7CDDC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36018-4558-4845-9627-CDE66400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14A3F-FA17-4258-97D3-015E0BFE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3BDAC-0132-447C-8BD2-1FDF3F42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80790-2BAE-42B2-88E2-CF477F55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DD5A2-025A-4B99-8493-19017BD8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D54B7-2B2F-44EF-9241-AF57FC21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25457-F4D6-4C6E-B1E3-C274ABFD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0F4EF-6459-49BF-81F2-773F3C23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E0C-3F9F-4483-B285-963EAFF7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9180E-A5E4-4670-AE94-29DBA4B3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53299-1437-4E6B-B77E-6D40E9BD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72C7D-C57F-43BC-9AB3-BAF477F9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E8505-A9A5-41C0-B030-B124609F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8D88B-81FA-4F1E-BF16-1AF45FEC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9E210-146B-42E4-AB31-0CB1086D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FF1EF-00B3-4178-B179-9532DC2F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0E097-14D2-4C4C-BB28-6827247D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57E9A-F457-4DD7-93A9-37404B88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80A87-1AEF-41E3-A08D-C71CDB8E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069-BED7-42D2-BD67-123219A5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CF9CB-A110-43D2-8B3D-05E1F687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2DC59-CDAD-4E98-8C7F-7AB5C9F4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CACB4-B0F3-42F0-BCA9-D8C98766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66B2E-84F6-406A-9BBA-C3BEAE38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E38D3-3F3C-40A5-A87E-EE94D509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C082B-21E6-474D-9668-45038706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FF37C-AD4B-4425-9949-FFBE0950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39BDA-3D71-4801-8ED4-905C409C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F8DA5-0693-4098-B9AF-FA11F1C7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73482-16FF-4BBE-82E6-B83346A7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598-4095-416D-A99C-F04F6AEA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2EE97-BBF1-410E-8807-1715EBE6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E50D6-D67C-480C-B721-648EB1E3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7E80A-180A-424D-98CF-79D3D8BE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54726-8FA3-4E90-B435-9EECE27C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77A94-28D4-42D3-8A69-31576A77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82038-3126-4FE6-9A94-822E4C98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381CA-70CD-443E-938D-0736960C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9D1C3-1AE1-46BA-A114-DE50B29F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61EDD-3A49-43C4-9C08-422C35EE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ADAC5-AFAD-4CE8-9FDE-E8D12ACC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655-C425-4360-BDFE-337C1AE8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8AD8B-BFE2-4E59-BAB9-F123D51C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6649A-A8DE-4F2D-A7CB-BE15A354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BDF7D-703A-49F2-B111-5AE9A825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EED4F-83C6-4DBB-B062-1A5667D1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5DDB6-C03F-45E3-851C-0CEEB24A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7480F-7891-4A52-B5A5-A3EC7A60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AB757-D19F-4116-976F-A353B043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98AE5-750E-468E-96C3-83CB1F74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55016-0200-474C-A604-525F9ED1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7F9FD-E738-46F8-AE26-08037804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BC1-9337-4FB5-B0D1-DAC8B15F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8EA9C-E1C7-4C8F-9499-A6614102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5FCC5-8CD3-4A4B-BEDB-0D152228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CB2E0-7E64-48AF-89C7-F7C4D470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261D2-BE27-4964-9712-78AB673C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97E7C-7BBD-4C8E-B7C0-68101925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3CD1F-B2EB-4001-8B54-C97D562E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4C0FC-AE79-4DDF-94BD-3DBFF6B7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2D130-E285-48D7-86BC-B729BA7A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029D6-4935-473E-9D34-19641CC2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3F50E-C861-461C-881C-C2A4C97D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789-86E9-4BCD-8686-13B738D2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6DF61-D4D9-45E8-A5C1-A058E366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3C097-E8EA-4504-9A16-6F33F350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9D4B4-35ED-4D3E-BB54-5077BA33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30CCA-EF70-4A67-8BBE-3C39F08B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25ED8-EEB3-4724-82F6-01480FA5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1EBFD-7BFB-4B3F-993A-575E1D91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903C0-8F41-4EBF-9FAD-68400F73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8A8F0-316D-4956-865D-96C23876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3EC5A-DAC7-4E37-89D6-45E86C89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DBA25-97A0-4DC5-A346-8887F8C6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549B-8BAA-4CD3-8141-3EA365381F1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C00B-69AF-43BF-8085-6AC392BD9A4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9D89-B1FF-4C0A-96A2-65C870D4DED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3135-472E-44B2-8D07-986438D1CB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4652-7AD7-466B-8F8B-0D8A24C3A1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8B3A-458C-4E55-9A8F-83B61DD9E6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96C7-F2F6-4289-85B2-B25C03FB33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CDC8-8AEA-47C3-8248-DEBDFAACDB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40BA-D0FC-40B2-93A8-529707D4A1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CCD5-70FB-4A2D-90B3-36964C01D0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225D-0651-4438-9852-104451436C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AD48-E90B-424E-8EB4-9F7551E887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00 Reč tvoja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eč tvoja,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stály spásy zdr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štítom pravdy odoln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viery dobrý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eč tvoja svetlom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u hviezdou náde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z bludných, hriešnych sveta cies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 k tebe dove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, Pane, z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iere stá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boji časnom uveď m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večnej radost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30T18:10:06Z</dcterms:modified>
  <cp:revision>20</cp:revision>
  <dc:subject/>
  <dc:title>Je veľký náš Pán, on slávy je Kráľ Nech do všetkých strán  spev vrúcnych znie chvál.</dc:title>
</cp:coreProperties>
</file>